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9627-E426-44D4-A403-0160D3A48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BFDE-36EC-4FA9-A79D-91534E67FD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1A1E-E4E4-454A-8D3C-E2EB13E050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AEDF-BE76-49EA-B1C5-D569370070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647E-E03C-4AF6-B0A7-D05B831B9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7017-13E2-4813-B0CF-C60E9A8175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43F7-5D69-4A43-BEE4-62BB8EF132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A2DF-22EB-4E39-885C-4B98E6D98A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95D9-5A7A-41A9-9892-24811CBF1C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AAE9-D6CD-4F80-9AEF-1CD773F85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A0F5-F17E-4325-A245-7546AEE98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7FC9-9476-4ED8-B4A2-999BE37759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3C21-3061-4D22-82C6-86828434C3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B077-B5E9-4959-ADEA-243CA38AFF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813D-19A3-4E3F-9706-9FC896D8C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3272-9E40-4226-9C40-1003CC7877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8C59-9DD2-4301-B3E4-98727F759F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6EC9-7AE2-43F0-9E9D-3E774B5444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C759-DC53-45F4-8C2B-631C72907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A561-4B91-4A1E-89E2-A0D7DAD640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9A2D-20A2-45B6-94AF-4D3F259D60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AA9E-4E8B-40B0-BBBB-CD5FE66E70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5DA3-AEC0-45D4-9BFF-F63472A910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65F2-74A1-4740-A413-4425CAF3E1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AE2F-7B29-4387-B707-FF713A53BD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57A3-88AB-4B54-894D-63A2B32687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4CF0-0AE8-43C2-BEBF-8F6F59ED3C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9A2-395B-428F-BCFD-235BD7DD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EF8-044E-4BD9-A728-05B23089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D3F-3BF8-4904-8203-E83BEBE0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2C2-F1E4-412E-997D-2C902126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6AA-A3B9-49AC-84F8-747AD4FD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1A3-5AEC-49BA-B8C2-81E72CB2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5CA-77A1-4443-B9EE-0F3F0837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144-308C-4E05-96DE-97C4D49C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0A5-B569-4B03-B2AF-CFC282AD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EA8-F92C-4897-8436-C283312F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200-94B3-49CF-A62F-0BF2E175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430-66B4-4E98-A16F-A61FF483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C08B-0562-49B0-B87C-14999E25C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cc"/>
                </a:solidFill>
                <a:uFillTx/>
                <a:latin typeface="Arial"/>
              </a:rPr>
              <a:t>МОЙ ДВ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IMG_7356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65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6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дворе мальчики играют в футбо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_7434"/>
          <p:cNvPicPr/>
          <p:nvPr/>
        </p:nvPicPr>
        <p:blipFill>
          <a:blip r:embed="rId1"/>
          <a:stretch/>
        </p:blipFill>
        <p:spPr>
          <a:xfrm>
            <a:off x="1066680" y="1523880"/>
            <a:ext cx="7315200" cy="502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54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 люблю играть в песочн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IMG_7301"/>
          <p:cNvPicPr/>
          <p:nvPr/>
        </p:nvPicPr>
        <p:blipFill>
          <a:blip r:embed="rId1"/>
          <a:stretch/>
        </p:blipFill>
        <p:spPr>
          <a:xfrm>
            <a:off x="1219320" y="1371600"/>
            <a:ext cx="7238880" cy="537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894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беру с собой ведерко, совочек, формочки, машинки для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IMG_7296"/>
          <p:cNvPicPr/>
          <p:nvPr/>
        </p:nvPicPr>
        <p:blipFill>
          <a:blip r:embed="rId1"/>
          <a:stretch/>
        </p:blipFill>
        <p:spPr>
          <a:xfrm>
            <a:off x="685800" y="1371600"/>
            <a:ext cx="8001000" cy="533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89107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157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озиться в песке любят даже ма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IMG_7430"/>
          <p:cNvPicPr/>
          <p:nvPr/>
        </p:nvPicPr>
        <p:blipFill>
          <a:blip r:embed="rId1"/>
          <a:stretch/>
        </p:blipFill>
        <p:spPr>
          <a:xfrm>
            <a:off x="1523880" y="1461960"/>
            <a:ext cx="6705720" cy="5281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5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хочешь быть сильным, нужно подтягиваться на турн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G_7431"/>
          <p:cNvPicPr/>
          <p:nvPr/>
        </p:nvPicPr>
        <p:blipFill>
          <a:blip r:embed="rId1"/>
          <a:stretch/>
        </p:blipFill>
        <p:spPr>
          <a:xfrm>
            <a:off x="1676520" y="1447920"/>
            <a:ext cx="5987880" cy="5294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58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лестница, если залезть высоко, то можно увидеть дале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IMG_7408"/>
          <p:cNvPicPr/>
          <p:nvPr/>
        </p:nvPicPr>
        <p:blipFill>
          <a:blip r:embed="rId1"/>
          <a:stretch/>
        </p:blipFill>
        <p:spPr>
          <a:xfrm>
            <a:off x="2666880" y="1295280"/>
            <a:ext cx="3862440" cy="556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72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дворе можно увидеть голубей и вороб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IMG_7372"/>
          <p:cNvPicPr/>
          <p:nvPr/>
        </p:nvPicPr>
        <p:blipFill>
          <a:blip r:embed="rId1"/>
          <a:stretch/>
        </p:blipFill>
        <p:spPr>
          <a:xfrm>
            <a:off x="914400" y="1523880"/>
            <a:ext cx="7467480" cy="525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68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зрослые выгуливают соб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IMG_7429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497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50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ты гуляют сами по с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IMG_7386"/>
          <p:cNvPicPr/>
          <p:nvPr/>
        </p:nvPicPr>
        <p:blipFill>
          <a:blip r:embed="rId1"/>
          <a:stretch/>
        </p:blipFill>
        <p:spPr>
          <a:xfrm>
            <a:off x="1295280" y="1371600"/>
            <a:ext cx="7162920" cy="537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44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ядом с домом есть магазин, где мы покупаем проду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IMG_7383"/>
          <p:cNvPicPr/>
          <p:nvPr/>
        </p:nvPicPr>
        <p:blipFill>
          <a:blip r:embed="rId1"/>
          <a:stretch/>
        </p:blipFill>
        <p:spPr>
          <a:xfrm>
            <a:off x="1770120" y="1600200"/>
            <a:ext cx="6383160" cy="5156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14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мой дом, здесь я жи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IMG_7436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554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9107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1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сор потом выбрасываем в специальные б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IMG_7370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5303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53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еще во дворе есть фонтанчик, где плавают р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MG_7240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525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42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дворе растут разные дере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IMG_7381"/>
          <p:cNvPicPr/>
          <p:nvPr/>
        </p:nvPicPr>
        <p:blipFill>
          <a:blip r:embed="rId1"/>
          <a:stretch/>
        </p:blipFill>
        <p:spPr>
          <a:xfrm>
            <a:off x="914400" y="1600200"/>
            <a:ext cx="7620120" cy="508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902664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84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веты - ромашки  и  одуван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IMG_7252"/>
          <p:cNvPicPr/>
          <p:nvPr/>
        </p:nvPicPr>
        <p:blipFill>
          <a:blip r:embed="rId1"/>
          <a:stretch/>
        </p:blipFill>
        <p:spPr>
          <a:xfrm>
            <a:off x="228600" y="1981080"/>
            <a:ext cx="4952880" cy="417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6" name="Picture 8" descr="MCj01228530000[1]"/>
          <p:cNvPicPr/>
          <p:nvPr/>
        </p:nvPicPr>
        <p:blipFill>
          <a:blip r:embed="rId2"/>
          <a:stretch/>
        </p:blipFill>
        <p:spPr>
          <a:xfrm>
            <a:off x="5178600" y="1752480"/>
            <a:ext cx="39654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333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это растение -подор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IMG_7388"/>
          <p:cNvPicPr/>
          <p:nvPr/>
        </p:nvPicPr>
        <p:blipFill>
          <a:blip r:embed="rId1"/>
          <a:stretch/>
        </p:blipFill>
        <p:spPr>
          <a:xfrm>
            <a:off x="1523880" y="1371600"/>
            <a:ext cx="6340680" cy="5349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9144000" y="6740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59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юблю свой двор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IMG_7356"/>
          <p:cNvPicPr/>
          <p:nvPr/>
        </p:nvPicPr>
        <p:blipFill>
          <a:blip r:embed="rId1"/>
          <a:stretch/>
        </p:blipFill>
        <p:spPr>
          <a:xfrm>
            <a:off x="304920" y="1415880"/>
            <a:ext cx="8534160" cy="537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214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Arial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мои соседи, они тоже живут в этом дом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MG_7374"/>
          <p:cNvPicPr/>
          <p:nvPr/>
        </p:nvPicPr>
        <p:blipFill>
          <a:blip r:embed="rId1"/>
          <a:stretch/>
        </p:blipFill>
        <p:spPr>
          <a:xfrm>
            <a:off x="1752480" y="1371600"/>
            <a:ext cx="5867640" cy="5354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моя детская площад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IMG_7390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515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78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11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ьше всего я люблю кач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IMG_7359"/>
          <p:cNvPicPr/>
          <p:nvPr/>
        </p:nvPicPr>
        <p:blipFill>
          <a:blip r:embed="rId1"/>
          <a:stretch/>
        </p:blipFill>
        <p:spPr>
          <a:xfrm>
            <a:off x="1828800" y="1371600"/>
            <a:ext cx="5630760" cy="5245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902664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20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ли бываю 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IMG_7392"/>
          <p:cNvPicPr/>
          <p:nvPr/>
        </p:nvPicPr>
        <p:blipFill>
          <a:blip r:embed="rId1"/>
          <a:stretch/>
        </p:blipFill>
        <p:spPr>
          <a:xfrm>
            <a:off x="1219320" y="1371600"/>
            <a:ext cx="6883200" cy="5334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5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ты любишь качать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MG_7399"/>
          <p:cNvPicPr/>
          <p:nvPr/>
        </p:nvPicPr>
        <p:blipFill>
          <a:blip r:embed="rId1"/>
          <a:stretch/>
        </p:blipFill>
        <p:spPr>
          <a:xfrm>
            <a:off x="1523880" y="1371600"/>
            <a:ext cx="6477120" cy="539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45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это высокая го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IMG_7401"/>
          <p:cNvPicPr/>
          <p:nvPr/>
        </p:nvPicPr>
        <p:blipFill>
          <a:blip r:embed="rId1"/>
          <a:stretch/>
        </p:blipFill>
        <p:spPr>
          <a:xfrm>
            <a:off x="762120" y="1447920"/>
            <a:ext cx="7848360" cy="523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6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нее здорово скатываться вн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IMG_7405"/>
          <p:cNvPicPr/>
          <p:nvPr/>
        </p:nvPicPr>
        <p:blipFill>
          <a:blip r:embed="rId1"/>
          <a:stretch/>
        </p:blipFill>
        <p:spPr>
          <a:xfrm>
            <a:off x="1752480" y="1447920"/>
            <a:ext cx="5867640" cy="5279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73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27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